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802D-EF1E-4C0B-A301-4835FA7BC4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129E-0C86-4EEF-9C65-8E82A06331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956A-C0E8-4743-962C-95ECD25B1C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79273-E429-4D44-B203-FCAC90B3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927F-E45D-4C56-979C-E1B554B5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32C7-7124-4718-8B5F-C8FC9FE0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1B671-ED84-4FE4-95D3-8B3134A7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CA19-4390-4248-A329-EAEA89EF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D73C-02F1-4150-A9D0-7F0F3840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0024-F862-45B7-BFE3-48E7D929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90E8-EAF6-4613-9086-3C73EAC5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B0F3-2D3C-4C85-B0F7-E7918EFD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231D-FDFC-414C-8367-E851783F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A11F-8159-417C-8933-4642C297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6ADA4-D1A2-425B-A71E-152C4B3B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61BA-4520-4C1C-A83A-F5E9F57B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9312-1864-4BFE-8750-E1009B0F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E029-5F8F-48CB-B55B-97A2E45E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D12E-53FD-4BF1-AB70-30660BAF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EA5B-12C0-4F17-8087-E5C92A2F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14C6C-EDC4-48F7-9BC5-BD7633F8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23635-905C-48E6-BAF7-0FDBAF14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0137-E20F-4880-87CD-17D1286B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464B-96BD-4D28-8ECA-AE4BD23F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40EC9-94DC-4042-8663-A22ED1DF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D78D-C8EA-4A36-9AF1-5906B7A0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48885-8FB5-465C-A34B-C5E27542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FAE1-9A7A-4310-AA19-2522F20CD1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DC90-2683-443B-A9CB-23FD69EED3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71640" y="465264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ИСТЕМЫ ПАМЯТИ В СОСТАВЕ МИКРОПРОЦЕССОР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,называют память, доступ к которой организован по принципу: "последним записан - первым считан" (Last Input First Output - LIFO). Использование принципа доступа к памяти на основе механизма LIFO началось с больших ЭВМ. Применение стековой памяти оказалось очень эффективным при построении компилирующих и интерпретирующих программ, при вычислении арифметических выражений с использованием польской инверсной записи. В малых ЭВМ она стала широко использоваться в связи с удобствами реализации процедур вызова подпрограмм и при обработке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цип работы стековой памяти состоит в следующем (см. рис. 3.2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0560" y="404280"/>
            <a:ext cx="245916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ковая память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pic3"/>
          <p:cNvPicPr/>
          <p:nvPr/>
        </p:nvPicPr>
        <p:blipFill>
          <a:blip r:embed="rId1"/>
          <a:stretch/>
        </p:blipFill>
        <p:spPr>
          <a:xfrm>
            <a:off x="3635280" y="2924280"/>
            <a:ext cx="4967280" cy="3724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2"/>
          <p:cNvSpPr/>
          <p:nvPr/>
        </p:nvSpPr>
        <p:spPr>
          <a:xfrm>
            <a:off x="833400" y="5950080"/>
            <a:ext cx="277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1. Принцип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слово А помещается в стек, оно располагается в первой свободной ячейке памяти. Следующее записываемое слово перемещает предыдущее на одну ячейку вверх и занимает его место и т.д. Запись 8-го кода, после H, приводит к переполнению стека и потере кода A. Считывание слов из стека осуществляется в обратном порядке, начиная с кода H, который был записан последним. Заметим, что выборка, например, кода E невозможна до выборки кода F, что определяется механизмом обращения при записи и чтении типа LIFO. Для фиксации переполнения стека желательно формировать признак переполн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мещение данных при записи и считывании информации в стековой памяти подобно тому, как это имеет место в сдвигающих регистрах. С точки зрения реализации механизма доступа к стековой памяти выделяют аппаратный и аппаратно-программный (внешний) стеки. Аппаратный стек представляет собой совокупность регистров, связи между которыми организованы таким образом, что при записи и считывании данных содержимое стека автоматически сдвигается. Обычно емкость аппаратного стека ограничена диапазоном от нескольких регистров до нескольких десятков регистров, поэтому в большинстве МП такой стек используется для хранения содержимого программного счетчика и его называют стеком команд. Основное достоинство аппаратного стека - высокое быстродействие, а недостаток - ограниченная емк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распространенным в настоящее время и, возможно, лучшим вариантом организации стека в ЭВМ является использование области памяти. Для адресации стека используется указатель стека, который предварительно загружается в регистр и определяет адрес последней занятой ячейки. Помимо команд CALL и RET, по которым записывается в стек и восстанавливается содержимое программного счетчика, имеются команды PUSH и POP, которые используются для временного запоминания в стеке содержимого регистров и их восстановления, соответственно. В некоторых МП содержимое основных регистров запоминается в стеке автоматически при прерывании программ. Содержимое регистра указателя стека при записи уменьшается, а при считывании увеличивается на 1 при выполнении команд PUSH и POP, соответствен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60595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характеристики полупроводниковой памя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ая память имеет большое число характеристик и параметров, которые необходимо учитывать при проектировании сист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Емкость памяти определяется числом бит хранимой информации. Емкость кристалла обычно выражается также в битах и составляет 1024 бита, 4 Кбит, 16 Кбит, 64 Кбит и т.п. Важной характеристикой кристалла является информационная организация кристалла памяти MxN, где M - число слов, N - разрядность слова. Например, кристалл емкостью 16 Кбит может иметь различную организацию: 16 Кx1, 4 Кx2 Кx8. При одинаковом времени обращения память с большей шириной выборки обладает большей информационной емк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Временные характеристики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доступа - временной интервал, определяемый от момента, когда центральный процессор выставил на шину адреса адрес требуемой ячейки памяти и послал по шине управления приказ на чтение или запись данных, до момента осуществления связи адресуемой ячейки с шиной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восстановления - это время, необходимое для приведения памяти в исходное состояние после того, как ЦП снял с ША - адрес, с ШУ - сигнал "чтение" или "запись" и с ШД - дан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дельная стоимость запоминающего устройства определяется отношением его стоимости к информационной емкости, т.е. определяется стоимостью бита хранимой информ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требляемая энергия (или рассеиваемая мощность) приводится для двух режимов работы кристалла: режима пассивного хранения информации и активного режима, когда операции записи и считывания выполняются с номинальным быстродействием. Кристаллы динамической МОП-памяти в резервном режиме потребляют примерно в десять раз меньше энергии, чем в активном режиме. Наибольшее потребление энергии, не зависящее от режима работы, характерно для кристаллов биполярной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лотность упаковки определяется площадью запоминающего элемента и зависит от числа транзисторов в схеме элемента и используемой технологии. Наибольшая плотность упаковки достигнута в кристаллах динамической МОП-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оянные запоминающие у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ируемые постоянные запоминающие устройства (ППЗУ) делятся на однократно программируемые (например, биполярные ПЗУ с плавкими соединениями) и рассматриваемые здесь многократно электрически программируемые МОП ПЗУ. Это полевой транзистор с плавающим затвором и МДОП (металл-диэлектрик-оксид полупроводник) транзистор. Обычно в качестве диэлектрика используют нитрид крем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ые ЗУ подразделяются на ЗУ с произвольной выборкой и ЗУ с последовательным доступом. ЗУПВ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атические оперативные запоминающие устройства (СОЗ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инамические оперативные запоминающие устройства (ДОЗУ). ЗУ с последовательным доступом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егистры сдвиг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риборы с зарядовой связью (ПЗС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нове большинства современных ОЗУ лежат комплиментарные МОП ИМС (КМОП), которые отличаются малой потребляемой мощностью. Это достигается применением пары МОП транзисторов с разным типом канала: n-МОП и p-МОП. Как видно на рис. 4.5, в КМОП инверторе, как при низком, так и при высоком уровне сигнала на входе один из транзисторов закрыт. Поэтому потребление энергии происходит только при переключении "1"R"0" (и обратно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971640" y="475920"/>
            <a:ext cx="5843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ивные запоминающие устройства(ОЗ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3573000"/>
            <a:ext cx="8785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реализовать на подложке n-типа не только p-канальный транзистор, но и n-канальный, последний изготавливается в так называемом "кармане", как показано на рис. 4.6. Аналогично на четырех МОП транзисторах (2 n-МОП и 2 p-МОП, включенных параллельно и последовательно) можно построить и другие базовые логические элементы "И" и "ИЛИ" и, соответственно, на их основе строятся все другие более сложные логические схемы. Как известно, быстродействие МОП транзисторов в первую очередь ограничивается большой входной емкостью затвор-исток (подложка). Уменьшение геометрических размеров приборов (площади затвора и длины канала) при увеличении степени интеграции увеличивает граничную частоту. Малое потребление энергии позволяет использовать КМОП ИМС с питанием от микробатареи как ПЗУ, где располагается часть операционной системы, которая осуществляет начальную загрузку всей системы (программа Setup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716000" y="2923920"/>
            <a:ext cx="352908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6. Конструкция инвертор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МОП транзисто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76640" y="2923920"/>
            <a:ext cx="33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5. Схема КМОП инвер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pic4"/>
          <p:cNvPicPr/>
          <p:nvPr/>
        </p:nvPicPr>
        <p:blipFill>
          <a:blip r:embed="rId1"/>
          <a:srcRect l="9123" t="11850" r="15914" b="28150"/>
          <a:stretch/>
        </p:blipFill>
        <p:spPr>
          <a:xfrm>
            <a:off x="468360" y="62064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pic4"/>
          <p:cNvPicPr/>
          <p:nvPr/>
        </p:nvPicPr>
        <p:blipFill>
          <a:blip r:embed="rId2"/>
          <a:srcRect l="0" t="3858" r="0" b="16181"/>
          <a:stretch/>
        </p:blipFill>
        <p:spPr>
          <a:xfrm>
            <a:off x="4356000" y="549360"/>
            <a:ext cx="4276800" cy="228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арной ячейкой статического ОЗУ с произвольной выборкой является триггер на транзисторах Т1-Т4 (рис. 3.7) с ключами Т5-Т8 для доступа к шине данных. Причем Т1-Т2 - это нагрузки, а Т3-Т4 - нормально закрытые элемен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ротивление элементов Т1-Т2 легко регулируется в процессе изготовления транзистора путем подгонки порогового напряжения при легировании поликремниевого затвора методом ионной имплантации. Количество транзисторов (6 или 8) на ячейку зависит от логической организации памяти микропроцессор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258920" y="549360"/>
            <a:ext cx="5122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ческие запоминающие устройств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pic4"/>
          <p:cNvPicPr/>
          <p:nvPr/>
        </p:nvPicPr>
        <p:blipFill>
          <a:blip r:embed="rId1"/>
          <a:stretch/>
        </p:blipFill>
        <p:spPr>
          <a:xfrm>
            <a:off x="2484360" y="3068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2349720" y="60926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7. Ячейка статического О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личие от статических ЗУ, которые хранят информацию пока включено питание, в динамических ЗУ необходима постоянная регенерация информации, однако при этом для хранения одного бита в ДОЗУ нужны всего 1-2 транзистора и накопительный конденсатор (рис. 4.8). Такие схемы более компакт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402920" y="692280"/>
            <a:ext cx="548316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ие запоминающие устр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pic4"/>
          <p:cNvPicPr/>
          <p:nvPr/>
        </p:nvPicPr>
        <p:blipFill>
          <a:blip r:embed="rId1"/>
          <a:stretch/>
        </p:blipFill>
        <p:spPr>
          <a:xfrm>
            <a:off x="395280" y="234936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24000" y="551664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8. Запоминающая ячей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намического О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pic4"/>
          <p:cNvPicPr/>
          <p:nvPr/>
        </p:nvPicPr>
        <p:blipFill>
          <a:blip r:embed="rId2"/>
          <a:stretch/>
        </p:blipFill>
        <p:spPr>
          <a:xfrm>
            <a:off x="4572000" y="2349360"/>
            <a:ext cx="4032360" cy="30657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"/>
          <p:cNvSpPr/>
          <p:nvPr/>
        </p:nvSpPr>
        <p:spPr>
          <a:xfrm>
            <a:off x="4081320" y="5589720"/>
            <a:ext cx="48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9. Конструкция ячейки динамического О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м. рис. 4.8, сле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ественно, что в микросхеме динамического ОЗУ есть один или несколько тактовых генераторов и логическая схема для восстановления информационного заряда, стекающего с конденсатора. Это несколько "утяжеляет" конструкцию ИМС. Чаще всего и СОЗУ, и ДОЗУ выполнены в виде ЗУ с произвольной выборкой, которые имеют ряд преимуществ перед ЗУ с последовательным доступ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минающие устройства с произвольной выборкой На рис. 4.10 показано обозначение ЗУПВ и его внутрення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pic4"/>
          <p:cNvPicPr/>
          <p:nvPr/>
        </p:nvPicPr>
        <p:blipFill>
          <a:blip r:embed="rId1"/>
          <a:stretch/>
        </p:blipFill>
        <p:spPr>
          <a:xfrm>
            <a:off x="4572000" y="270828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pic4"/>
          <p:cNvPicPr/>
          <p:nvPr/>
        </p:nvPicPr>
        <p:blipFill>
          <a:blip r:embed="rId2"/>
          <a:srcRect l="21228" t="11850" r="27812" b="16142"/>
          <a:stretch/>
        </p:blipFill>
        <p:spPr>
          <a:xfrm>
            <a:off x="826920" y="2781360"/>
            <a:ext cx="2786400" cy="2951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214560" y="5949720"/>
            <a:ext cx="83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10. ОЗУ с произвольной выборкой:  а) ОЗУ 16x4 бит;  б) ОЗУ 64Кx1 (КР565РУ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есь: D1-Dn (справа DI) - информационные входы; Q1 - Qn (справа DO) - инверсные выходы; A1- An - адресные входы; WE# - запись/чтение; CS# (Chip Select) - выбор кристалла; CAS# (Column Address Strobe) и RAS# (Row Address Strobe) - сигнал выборки столбца и строки соответственно. Представленное здесь ЗУПВ - это ДОЗУ с организацией хранения информации 65536 бит на 1 разряд. Накопительная матрица с однотранзисторными запоминающими элементами имеет размер 512x128. Для уменьшения количества задействованных ножек у ИМС (16-входовый DIP корпус) применена мультипликация адреса, что видно на рисунке по наличию отдельных дешифраторов строк и столбцов. Устройство управления включает два генератора тактовых сигналов и генератор сигналов записи и обеспечивает 4 режима работы: записи, считывания, регенерации и мультипликации адреса. Время регенерации - 2 м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53280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кросхемы памяти в составе 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1835280" y="1052640"/>
            <a:ext cx="828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pic3"/>
          <p:cNvPicPr/>
          <p:nvPr/>
        </p:nvPicPr>
        <p:blipFill>
          <a:blip r:embed="rId1"/>
          <a:stretch/>
        </p:blipFill>
        <p:spPr>
          <a:xfrm>
            <a:off x="1979640" y="198900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705320" y="6021360"/>
            <a:ext cx="570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7. Микросхемы ОЗУ (К573РУ9) и ППЗУ (К573РФ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е микропроцессорн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914760" y="1268280"/>
            <a:ext cx="755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ис. 3.17 представлено взаимодействие К573РФ2(5) и К573РУ9, име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ую организацию 2Кx8, с системной магистрал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данных с шины данных (линии D0-D7) считывается (или записывается) по адресу, выставленному на шине адреса (линии A0-A10). Естественно, число адресуемых ячеек составляет 211=800h=2048. Микросхема-дешифратор К555ИД7 посредством сигнала CS# (выбор кристалла) позволяет выбрать положение ИМС ЗУ в адресном пространстве. Для данного случая это адреса 0000h-07FFh для ПЗУ(ROM) и 0800h-0FFFh для ОЗУ(RAM). Низкий уровень сигналов управления MEMW# и MEMR# активизирует процесс записи и чтения, соответственно. Стоит помнить, что запись информации в данную ИМС ППЗУ возможен только вне микропроцессорной системы в специальном программаторе после УФ стирания путем подачи достаточно высокого напряжения на вход PG. Аналогично можно проследить и взаимодействие программируемых ИМС параллельного интерфейса и программируемого таймера, служащих для взаимодействия МП с внешними устройствами. На рис. 4.12 они обозначены как PI и T. Регистры этих микросхем также доступны пользователю для чтения/записи, как и ячейки основной памяти. Однако их активизируют другие сигналы управления IOR# и IOW# (запись в порты ввода/вывода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кросхема КР580ВВ55А (аналог Intel 8255А) позволяет переключать шину данных компьютера на один из трех 8-битных портов (регистров) A, B или C. Направление передачи данных и режим работы (0-2) определяются программным способом. Чаще других используется режим 0: простой ввод-вывод. Состояние адресных линий А0 и А1 позволяет выбрать для обмена информацией регистры A, B, C или регистр управления. Режим работы параллельного интерфейса КР580ВВ55А определяется байтом, записанным в регистр управления. При работе на вывод порты A, B, C действуют как регистры, т.е. сохраняют информацию до следующей записи; при работе на ввод информация теряется. Порт С, в отличие от портов A и B, разбит на полубайты и может программироваться раздельно, т.е. мы имеем группы A и B. В дополнение к основным режимам работы микросхема КР580ВВ55А обеспечивает возможность программной независимой установки/сброса любого бита (порт С), в этом случае старший бит в регистре управления должен быть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755640" y="5590440"/>
            <a:ext cx="770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8. Пример взаимодействия программируемых ИМС параллельного порта (PI) КР580ВВ55А и таймера (T) КР580ВИ53 с системной магистралью компьютера; DC - дешифратор К555ИД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pic3"/>
          <p:cNvPicPr/>
          <p:nvPr/>
        </p:nvPicPr>
        <p:blipFill>
          <a:blip r:embed="rId1"/>
          <a:stretch/>
        </p:blipFill>
        <p:spPr>
          <a:xfrm>
            <a:off x="1116000" y="692280"/>
            <a:ext cx="6985080" cy="4778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539640" y="765000"/>
            <a:ext cx="8215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льная схема КР580ВИ53 создана по n-МОП технологии, Uпит=+5 В, U1&gt;2.4 В, U0&lt;0.45 В, P=1 Вт, fтакт &lt;2 МГц, 24 вывода, максимальное значение счета: 216 - в двоичном коде и 104 - в двоично-десятичном. Программируемый таймер КР580ВИ53 реализован в виде трех независимых 16-разрядных вычитающих счетчиков (каналов) с общей схемой управления. Каждый канал может работать в шести режимах. Программирование режимов работы каналов осуществляется индивидуально и в произвольном порядке путем ввода управляющих слов в регистры режимов каналов, а в счетчики - некоторого числа байт. На рис. 3.18 можно видеть, что таймер обменивается информацией с 8-битной шиной данных микропроцессорной системы через вход D, а также он связан с адресной шиной двумя линиями А0-А1, обеспечивающими выбор одного из четырех регистров (3 канала и управляющее слово). Сигналы шины управления IOR# и IOW# (чтение/запись из/во внешнее устройство) определяют направление потока информации от процессора к таймеру и наоборот. С0, С1, С2 - тактовые входы, сигналы на Е0, Е1, Е2 - разрешают или запрещают работу соответствующего канала, OU0, OU1, OU2 - вых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2601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ферная памя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ычислительных системах используются подсистемы с различным быстродействием, и, в частности, с различной скоростью передачи данных (рис. 3.19). Обычно обмен данными между такими подсистемами реализуется с использованием прерываний или канала прямого доступа к памяти. В первую очередь подсистема 1 формирует запрос на обслуживание по мере готовности данных к обмену. Однако обслуживание прерываний связано с непроизводительными потерями времени и при пакетном обмене производительность подсистемы 2 заметно уменьшается. При обмене данными с использованием канала прямого доступа к памяти подсистема 1 передает данные в память подсистемы 2. Данный способ обмена достаточно эффективен с точки зрения быстродействия, но для его реализации необходим довольно сложный контроллер прямого доступа к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pic3"/>
          <p:cNvPicPr/>
          <p:nvPr/>
        </p:nvPicPr>
        <p:blipFill>
          <a:blip r:embed="rId1"/>
          <a:srcRect l="0" t="15866" r="0" b="28189"/>
          <a:stretch/>
        </p:blipFill>
        <p:spPr>
          <a:xfrm>
            <a:off x="1619280" y="4076640"/>
            <a:ext cx="5688000" cy="2033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2134800" y="6237000"/>
            <a:ext cx="412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9. Применение буферн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эффективно обмен данными между подсистемами с различным быстродействием реализуется при наличии между ними специальной буферной памяти. Данные от подсистемы 1 временно запоминаются в буферной памяти до готовности подсистемы 2 принять их. Емкость буферной памяти должна быть достаточной для хранения тех блоков данных, которые подсистема 1 формирует между считываниями их подсистемой 2. Отличительной особенностью буферной памяти является запись данных с быстродействием и под управлением подсистемы 1, а считывание - с быстродействием и под управлением подсистемы 2 ("эластичная память"). В общем случае память должна выполнять операции записи и считывания совершенно независимо и даже одновременно, что устраняет необходимость синхронизации подсистем. Буферная память должна сохранять порядок поступления данных от подсистемы 1, т.е. работать по принципу "первое записанное слово считывается первым" (First Input First Output - FIF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201400" y="6237000"/>
            <a:ext cx="434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0. Структурная схема буфера 64x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pic3"/>
          <p:cNvPicPr/>
          <p:nvPr/>
        </p:nvPicPr>
        <p:blipFill>
          <a:blip r:embed="rId1"/>
          <a:srcRect l="0" t="11890" r="0" b="12165"/>
          <a:stretch/>
        </p:blipFill>
        <p:spPr>
          <a:xfrm>
            <a:off x="1692360" y="3716280"/>
            <a:ext cx="5832360" cy="2454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ристалле размещены 64 4-битных регистра с независимыми цепями сдвига, организованных в 4 последовательных 64-битных регистра данных, 64-битный управляющий регистр, а также схема управления. Входные данные поступают на линии DI0-DI3, а вывод данных осуществляется через контакты DO0-DO3. Ввод (запись) данных производится управляющим сигналом SI (shift in), а вывод (считывание) - сигналом вывода SO (shift out). Ввод данных осуществляется только при наличии сигнала готовности ввода IR (input ready), а вывод - при наличии сигнала готовности вывода OR (output ready). Управляющий сигнал R (reset) производит сброс содержимого буфера. При вводе 4-битного слова под действием сигнала SI оно автоматически передвигается в ближайший к выходу свободный регистр. Состояние регистра данных отображается в соответствующем ему управляющем триггере, совокупность триггеров образует 64-битный управляющий регистр. Если регистр содержит данные, то управляющий триггер находится в состоянии 1, а если регистр не содержит данных, то триггер находится в состоянии 0. Как только управляющий бит соседнего справа регистра изменяется на 0, слово данных автоматически сдвигается к выходу. Перед началом работы в буфер подается сигнал сброса R и все управляющие триггеры переводятся в состояние 0 (все регистры буфера свободны). На выводе IR формируется логическая 1, т.е. буфер готов воспринимать входные данные. При действии сигнала ввода SI входное слово загружается в регистр P1, а управляющий триггер этого регистра устанавливается в состояние 1: на входе IR формируется логический 0. Связи между регистрами организованы таким образом, что поступившее в P1 слово "спонтанно" копируется во всех регистрах данных FIFO и появляется на выходных линиях DO0-DO3. Теперь все 64 регистра буфера содержат одинаковые слова, управляющий триггер последнего регистра P64 находится в состоянии 1, а остальные управляющие триггеры сброшены при передаче данных в соседние справа регист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ояние управляющего триггера P64 выведено на линию готовности выхода OR; OR принимает значение 1, когда в триггер записывается 1. Процесс ввода может продолжаться до полного заполнения буфера; в этом случае все управляющие триггеры находятся в состоянии 1 и на линии IR сохраняется логический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одаче сигнала SO производится восприятие слова с линий DO0-DO3, управляющий триггер P64 переводится в состояние 1, на линии OR появляется логическая 1, а управляющий триггер P64 сбрасывается в 0. Затем этот процесс повторяется для остальных регистров и нуль в управляющем регистре перемещается ко входу по мере сдвига данных вправо. В некоторых кристаллах буфера FIFO имеется дополнительная выходная линия флажка заполнения наполовину. На ней формируется сигнал 1, если число слов составляет более половины емкости буф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енный принцип организации FIFO допускает выполнение записи и считывания данных независимо и одновременно. Скорость ввода определяется временным интервалом, необходимым для передачи данных из P1, а выводить данные можно с такой же скоростью. Единственным ограничением является время распространения данных через FIFO, равное времени передачи входного слова на выход незаполненного буфера FIFO. Оно равняется произведению времени внутреннего сдвига и числа регистра данных. В буферах FIFO, выполненных по МОП-технологии и имеющих емкость 64 слова, время распространения составляет примерно 30 мкс, а в биполярных FIFO такой же емкости - примерно 2 мкс. Буферы можно наращивать как по числу слов, так и по их дли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16Z</dcterms:modified>
  <cp:revision>133</cp:revision>
  <dc:subject/>
  <dc:title>Микропроцессорные системы</dc:title>
</cp:coreProperties>
</file>